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1768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800" y="184464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492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1768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800" y="3499920"/>
            <a:ext cx="2688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70563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49992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844640"/>
            <a:ext cx="4074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499920"/>
            <a:ext cx="8348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94920" y="5986080"/>
            <a:ext cx="604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646569"/>
                </a:solidFill>
                <a:latin typeface="Source Sans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Name des/der Vortragend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Titel der Veranstaltung (änderbar unter Ansicht &gt; Master &gt; Folienma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4" name="Textfeld 14"/>
          <p:cNvSpPr/>
          <p:nvPr/>
        </p:nvSpPr>
        <p:spPr>
          <a:xfrm>
            <a:off x="6510240" y="6091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5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791480" y="404640"/>
            <a:ext cx="952560" cy="108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hteck 7"/>
          <p:cNvSpPr/>
          <p:nvPr/>
        </p:nvSpPr>
        <p:spPr>
          <a:xfrm>
            <a:off x="179280" y="189000"/>
            <a:ext cx="8785440" cy="6458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14"/>
          <p:cNvSpPr/>
          <p:nvPr/>
        </p:nvSpPr>
        <p:spPr>
          <a:xfrm>
            <a:off x="6510240" y="6091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791480" y="404640"/>
            <a:ext cx="952560" cy="1086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5"/>
          <p:cNvSpPr/>
          <p:nvPr/>
        </p:nvSpPr>
        <p:spPr>
          <a:xfrm>
            <a:off x="279000" y="2133720"/>
            <a:ext cx="77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646569"/>
                </a:solidFill>
                <a:latin typeface="Source Sans Pro"/>
              </a:rPr>
              <a:t>Latvia: Developing a Comprehensive Active Ageing Strategy</a:t>
            </a:r>
            <a:br>
              <a:rPr sz="2000"/>
            </a:br>
            <a:r>
              <a:rPr b="1" lang="de-AT" sz="2000" spc="-1" strike="noStrike">
                <a:solidFill>
                  <a:srgbClr val="646569"/>
                </a:solidFill>
                <a:latin typeface="Source Sans Pro"/>
              </a:rPr>
              <a:t>for Longer and Better Working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401760" y="3933720"/>
            <a:ext cx="7921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eminar on Active Ageing, Employment of Older Worker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nd Care for Famil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Sigrid Röh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Vienna, 23 April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ild 8" descr=""/>
          <p:cNvPicPr/>
          <p:nvPr/>
        </p:nvPicPr>
        <p:blipFill>
          <a:blip r:embed="rId3"/>
          <a:stretch/>
        </p:blipFill>
        <p:spPr>
          <a:xfrm>
            <a:off x="457200" y="3102120"/>
            <a:ext cx="2178000" cy="631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94920" y="5660640"/>
            <a:ext cx="60483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569"/>
                </a:solidFill>
                <a:latin typeface="Source Sans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569"/>
                </a:solidFill>
                <a:latin typeface="Source Sans Pro"/>
              </a:rPr>
              <a:t>FEDERAL MINISTR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569"/>
                </a:solidFill>
                <a:latin typeface="Source Sans Pro"/>
              </a:rPr>
              <a:t>LABOUR, SOCIAL AFF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569"/>
                </a:solidFill>
                <a:latin typeface="Source Sans Pro"/>
              </a:rPr>
              <a:t>AND CONSUMER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eck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14"/>
          <p:cNvSpPr/>
          <p:nvPr/>
        </p:nvSpPr>
        <p:spPr>
          <a:xfrm>
            <a:off x="6510240" y="6091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791480" y="404640"/>
            <a:ext cx="952560" cy="1086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394920" y="1844640"/>
            <a:ext cx="8348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http://www.bmg.gv.at/" TargetMode="External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hyperlink" Target="http://www.sozialministerium.at/cms/site/index.html" TargetMode="External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sigrid.roehrich@sozialministerium.at" TargetMode="External"/><Relationship Id="rId2" Type="http://schemas.openxmlformats.org/officeDocument/2006/relationships/hyperlink" Target="mailto:sigrid.roehrich@sozialministerium.a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4"/>
          <p:cNvSpPr/>
          <p:nvPr/>
        </p:nvSpPr>
        <p:spPr>
          <a:xfrm>
            <a:off x="395280" y="5661000"/>
            <a:ext cx="60483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569"/>
                </a:solidFill>
                <a:latin typeface="Source Sans Pro"/>
              </a:rPr>
              <a:t>FEDERAL MINISTR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569"/>
                </a:solidFill>
                <a:latin typeface="Source Sans Pro"/>
              </a:rPr>
              <a:t>LABOUR, SOCI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569"/>
                </a:solidFill>
                <a:latin typeface="Source Sans Pro"/>
              </a:rPr>
              <a:t>AND CONSUM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Counselling Process for Individuals (II)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59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149480" y="1197000"/>
            <a:ext cx="64468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Implementation Status – Individual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2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4000" y="2055960"/>
          <a:ext cx="8208720" cy="3173400"/>
        </p:xfrm>
        <a:graphic>
          <a:graphicData uri="http://schemas.openxmlformats.org/drawingml/2006/table">
            <a:tbl>
              <a:tblPr/>
              <a:tblGrid>
                <a:gridCol w="5903640"/>
                <a:gridCol w="2305080"/>
              </a:tblGrid>
              <a:tr h="734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of 31 March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8,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Consul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,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0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which on-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Counselling for Companie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Consortium of five consulting firm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Network all over Austria (20 consultants, 30 assistants)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ublic events (information on programme, reports on activities)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Three stage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heck4Start (by Accident Insurance)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Fit2work (counselling process based on Workability Index +)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55640" y="320760"/>
            <a:ext cx="54007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95280" y="155700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9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795320"/>
          <a:ext cx="8642160" cy="3338640"/>
        </p:xfrm>
        <a:graphic>
          <a:graphicData uri="http://schemas.openxmlformats.org/drawingml/2006/table">
            <a:tbl>
              <a:tblPr/>
              <a:tblGrid>
                <a:gridCol w="1368360"/>
                <a:gridCol w="1944720"/>
                <a:gridCol w="1944720"/>
                <a:gridCol w="1944720"/>
                <a:gridCol w="1439640"/>
              </a:tblGrid>
              <a:tr h="118908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Safet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ir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 Plus</a:t>
                      </a:r>
                      <a:br>
                        <a:rPr sz="1200"/>
                      </a:b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ability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 intervi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ef4030"/>
                          </a:solidFill>
                          <a:latin typeface="Arial"/>
                        </a:rPr>
                        <a:t>Preserve </a:t>
                      </a: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capacity and employ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ef4030"/>
                          </a:solidFill>
                          <a:latin typeface="Arial"/>
                        </a:rPr>
                        <a:t>Restore </a:t>
                      </a: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capacity and employ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ef4030"/>
                          </a:solidFill>
                          <a:latin typeface="Arial"/>
                        </a:rPr>
                        <a:t>Promote </a:t>
                      </a: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capacity and employ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 of working time, management trainings, healthy leadership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-building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managemt,</a:t>
                      </a:r>
                      <a:br>
                        <a:rPr sz="1200"/>
                      </a:br>
                      <a:r>
                        <a:rPr b="0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-life balance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08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risks to mental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2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place Health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</a:t>
                      </a:r>
                      <a:br>
                        <a:rPr sz="1800"/>
                      </a:b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Tertiary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Ellipse 5"/>
          <p:cNvSpPr/>
          <p:nvPr/>
        </p:nvSpPr>
        <p:spPr>
          <a:xfrm>
            <a:off x="3348000" y="1795320"/>
            <a:ext cx="2376360" cy="1266840"/>
          </a:xfrm>
          <a:prstGeom prst="ellipse">
            <a:avLst/>
          </a:prstGeom>
          <a:noFill/>
          <a:ln w="2844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7"/>
          <p:cNvSpPr/>
          <p:nvPr/>
        </p:nvSpPr>
        <p:spPr>
          <a:xfrm>
            <a:off x="250920" y="5229360"/>
            <a:ext cx="8642160" cy="7340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pational Heal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ing all three 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rapezoid 7"/>
          <p:cNvSpPr/>
          <p:nvPr/>
        </p:nvSpPr>
        <p:spPr>
          <a:xfrm>
            <a:off x="250920" y="836640"/>
            <a:ext cx="8642160" cy="928800"/>
          </a:xfrm>
          <a:prstGeom prst="pie">
            <a:avLst/>
          </a:prstGeom>
          <a:solidFill>
            <a:srgbClr val="ffcc66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22268"/>
                </a:solidFill>
                <a:latin typeface="Arial"/>
              </a:rPr>
              <a:t>Occupational Health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Implementation Status – Companie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75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6560" y="2286000"/>
          <a:ext cx="8209080" cy="2583000"/>
        </p:xfrm>
        <a:graphic>
          <a:graphicData uri="http://schemas.openxmlformats.org/drawingml/2006/table">
            <a:tbl>
              <a:tblPr/>
              <a:tblGrid>
                <a:gridCol w="5904000"/>
                <a:gridCol w="2305080"/>
              </a:tblGrid>
              <a:tr h="735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of 17 April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1: check4st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2: fit2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in stage 2 (by the end of 20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c00000"/>
                      </a:solidFill>
                    </a:lnL>
                    <a:lnR>
                      <a:noFill/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Psychological and Psycho-therapeutic Treatmen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Pilot project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cc. to AGG 2010 (June 2013 – December 2015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Reason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: supply gaps in treatment places by Health Insurance,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long waiting periods – complementary offer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Objective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: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establishing a nation-wide structure to ensure psychological and psycho-therapeutic treatment of person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with mental health problems so as to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enhance their working capacity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void job losses due to mental health problem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reintegrate individuals after long sick leave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lose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 cooperation with fit2work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ounselling for individual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9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7"/>
          <p:cNvSpPr/>
          <p:nvPr/>
        </p:nvSpPr>
        <p:spPr>
          <a:xfrm>
            <a:off x="4414680" y="4890960"/>
            <a:ext cx="43200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Organisation of Pilot Project</a:t>
            </a:r>
            <a:br>
              <a:rPr sz="2500"/>
            </a:b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82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llipse 4"/>
          <p:cNvSpPr/>
          <p:nvPr/>
        </p:nvSpPr>
        <p:spPr>
          <a:xfrm>
            <a:off x="501480" y="1716120"/>
            <a:ext cx="2087640" cy="112248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496"/>
          <p:cNvSpPr/>
          <p:nvPr/>
        </p:nvSpPr>
        <p:spPr>
          <a:xfrm>
            <a:off x="3587760" y="5667480"/>
            <a:ext cx="4724280" cy="3538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2"/>
          <p:cNvSpPr/>
          <p:nvPr/>
        </p:nvSpPr>
        <p:spPr>
          <a:xfrm>
            <a:off x="5599080" y="4835520"/>
            <a:ext cx="204840" cy="387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3"/>
          <p:cNvSpPr/>
          <p:nvPr/>
        </p:nvSpPr>
        <p:spPr>
          <a:xfrm>
            <a:off x="5745240" y="2233440"/>
            <a:ext cx="366480" cy="73368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5"/>
          <p:cNvSpPr/>
          <p:nvPr/>
        </p:nvSpPr>
        <p:spPr>
          <a:xfrm>
            <a:off x="5878440" y="4599000"/>
            <a:ext cx="366840" cy="7333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7"/>
          <p:cNvSpPr/>
          <p:nvPr/>
        </p:nvSpPr>
        <p:spPr>
          <a:xfrm>
            <a:off x="286704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9"/>
          <p:cNvSpPr/>
          <p:nvPr/>
        </p:nvSpPr>
        <p:spPr>
          <a:xfrm>
            <a:off x="394812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4956120" y="4898880"/>
            <a:ext cx="43200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2"/>
          <p:cNvSpPr/>
          <p:nvPr/>
        </p:nvSpPr>
        <p:spPr>
          <a:xfrm>
            <a:off x="538812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3"/>
          <p:cNvSpPr/>
          <p:nvPr/>
        </p:nvSpPr>
        <p:spPr>
          <a:xfrm>
            <a:off x="5964120" y="4898880"/>
            <a:ext cx="43200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4"/>
          <p:cNvSpPr/>
          <p:nvPr/>
        </p:nvSpPr>
        <p:spPr>
          <a:xfrm>
            <a:off x="639612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5"/>
          <p:cNvSpPr/>
          <p:nvPr/>
        </p:nvSpPr>
        <p:spPr>
          <a:xfrm>
            <a:off x="697248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6"/>
          <p:cNvSpPr/>
          <p:nvPr/>
        </p:nvSpPr>
        <p:spPr>
          <a:xfrm>
            <a:off x="740412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8"/>
          <p:cNvSpPr/>
          <p:nvPr/>
        </p:nvSpPr>
        <p:spPr>
          <a:xfrm>
            <a:off x="790740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9"/>
          <p:cNvSpPr/>
          <p:nvPr/>
        </p:nvSpPr>
        <p:spPr>
          <a:xfrm>
            <a:off x="8340840" y="4898880"/>
            <a:ext cx="431640" cy="73368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0"/>
          <p:cNvSpPr/>
          <p:nvPr/>
        </p:nvSpPr>
        <p:spPr>
          <a:xfrm>
            <a:off x="301140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365904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>
            <a:off x="4307040" y="4089240"/>
            <a:ext cx="57600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4"/>
          <p:cNvSpPr/>
          <p:nvPr/>
        </p:nvSpPr>
        <p:spPr>
          <a:xfrm>
            <a:off x="495612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5"/>
          <p:cNvSpPr/>
          <p:nvPr/>
        </p:nvSpPr>
        <p:spPr>
          <a:xfrm>
            <a:off x="560376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6"/>
          <p:cNvSpPr/>
          <p:nvPr/>
        </p:nvSpPr>
        <p:spPr>
          <a:xfrm>
            <a:off x="625140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17"/>
          <p:cNvSpPr/>
          <p:nvPr/>
        </p:nvSpPr>
        <p:spPr>
          <a:xfrm>
            <a:off x="6899400" y="4089240"/>
            <a:ext cx="57600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754848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8196120" y="4089240"/>
            <a:ext cx="576360" cy="4082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1"/>
          <p:cNvSpPr/>
          <p:nvPr/>
        </p:nvSpPr>
        <p:spPr>
          <a:xfrm>
            <a:off x="2687760" y="4122720"/>
            <a:ext cx="636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1" lang="de-AT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eering psychologists in all 9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2"/>
          <p:cNvSpPr/>
          <p:nvPr/>
        </p:nvSpPr>
        <p:spPr>
          <a:xfrm>
            <a:off x="2951280" y="4765680"/>
            <a:ext cx="651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Regional psychologists and psychothera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4"/>
          <p:cNvSpPr/>
          <p:nvPr/>
        </p:nvSpPr>
        <p:spPr>
          <a:xfrm flipH="1">
            <a:off x="3156120" y="4508640"/>
            <a:ext cx="142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5"/>
          <p:cNvSpPr/>
          <p:nvPr/>
        </p:nvSpPr>
        <p:spPr>
          <a:xfrm>
            <a:off x="3298680" y="4508640"/>
            <a:ext cx="7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6"/>
          <p:cNvSpPr/>
          <p:nvPr/>
        </p:nvSpPr>
        <p:spPr>
          <a:xfrm flipH="1">
            <a:off x="5172120" y="4508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7"/>
          <p:cNvSpPr/>
          <p:nvPr/>
        </p:nvSpPr>
        <p:spPr>
          <a:xfrm>
            <a:off x="5243400" y="450864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9"/>
          <p:cNvSpPr/>
          <p:nvPr/>
        </p:nvSpPr>
        <p:spPr>
          <a:xfrm flipH="1">
            <a:off x="3443040" y="2041560"/>
            <a:ext cx="1081080" cy="20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1"/>
          <p:cNvSpPr/>
          <p:nvPr/>
        </p:nvSpPr>
        <p:spPr>
          <a:xfrm>
            <a:off x="4559400" y="2041560"/>
            <a:ext cx="36360" cy="20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2"/>
          <p:cNvSpPr/>
          <p:nvPr/>
        </p:nvSpPr>
        <p:spPr>
          <a:xfrm>
            <a:off x="4516560" y="2041560"/>
            <a:ext cx="726840" cy="20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3"/>
          <p:cNvSpPr/>
          <p:nvPr/>
        </p:nvSpPr>
        <p:spPr>
          <a:xfrm>
            <a:off x="4524480" y="2030400"/>
            <a:ext cx="1366560" cy="20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4"/>
          <p:cNvSpPr/>
          <p:nvPr/>
        </p:nvSpPr>
        <p:spPr>
          <a:xfrm>
            <a:off x="4524480" y="2030400"/>
            <a:ext cx="2016000" cy="20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5"/>
          <p:cNvSpPr/>
          <p:nvPr/>
        </p:nvSpPr>
        <p:spPr>
          <a:xfrm>
            <a:off x="4559400" y="2041560"/>
            <a:ext cx="2557440" cy="20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6"/>
          <p:cNvSpPr/>
          <p:nvPr/>
        </p:nvSpPr>
        <p:spPr>
          <a:xfrm>
            <a:off x="4524480" y="2041560"/>
            <a:ext cx="3311280" cy="20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7"/>
          <p:cNvSpPr/>
          <p:nvPr/>
        </p:nvSpPr>
        <p:spPr>
          <a:xfrm>
            <a:off x="4516560" y="2041560"/>
            <a:ext cx="4005000" cy="20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9"/>
          <p:cNvSpPr/>
          <p:nvPr/>
        </p:nvSpPr>
        <p:spPr>
          <a:xfrm>
            <a:off x="144360" y="2923920"/>
            <a:ext cx="1474920" cy="6073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place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0"/>
          <p:cNvSpPr/>
          <p:nvPr/>
        </p:nvSpPr>
        <p:spPr>
          <a:xfrm flipH="1">
            <a:off x="3875040" y="2030400"/>
            <a:ext cx="641520" cy="20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2"/>
          <p:cNvSpPr/>
          <p:nvPr/>
        </p:nvSpPr>
        <p:spPr>
          <a:xfrm flipH="1">
            <a:off x="8196120" y="450864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3"/>
          <p:cNvSpPr/>
          <p:nvPr/>
        </p:nvSpPr>
        <p:spPr>
          <a:xfrm>
            <a:off x="8412120" y="4508640"/>
            <a:ext cx="144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0"/>
          <p:cNvSpPr/>
          <p:nvPr/>
        </p:nvSpPr>
        <p:spPr>
          <a:xfrm flipH="1">
            <a:off x="3126960" y="2030400"/>
            <a:ext cx="13971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106"/>
          <p:cNvSpPr/>
          <p:nvPr/>
        </p:nvSpPr>
        <p:spPr>
          <a:xfrm>
            <a:off x="6792840" y="5524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1"/>
          <p:cNvSpPr/>
          <p:nvPr/>
        </p:nvSpPr>
        <p:spPr>
          <a:xfrm flipH="1" flipV="1">
            <a:off x="3587400" y="5445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2"/>
          <p:cNvSpPr/>
          <p:nvPr/>
        </p:nvSpPr>
        <p:spPr>
          <a:xfrm flipV="1">
            <a:off x="4524480" y="5445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3"/>
          <p:cNvSpPr/>
          <p:nvPr/>
        </p:nvSpPr>
        <p:spPr>
          <a:xfrm flipV="1">
            <a:off x="560376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4"/>
          <p:cNvSpPr/>
          <p:nvPr/>
        </p:nvSpPr>
        <p:spPr>
          <a:xfrm flipV="1">
            <a:off x="661176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5"/>
          <p:cNvSpPr/>
          <p:nvPr/>
        </p:nvSpPr>
        <p:spPr>
          <a:xfrm flipV="1">
            <a:off x="7548480" y="544500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_s103495"/>
          <p:cNvSpPr/>
          <p:nvPr/>
        </p:nvSpPr>
        <p:spPr>
          <a:xfrm>
            <a:off x="2698920" y="1042920"/>
            <a:ext cx="3960720" cy="58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ychological or psycho-therapeutic treatment</a:t>
            </a:r>
            <a:br>
              <a:rPr sz="1200"/>
            </a:br>
            <a:r>
              <a:rPr b="1" lang="de-A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ed by labour psychologi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0"/>
          <p:cNvSpPr/>
          <p:nvPr/>
        </p:nvSpPr>
        <p:spPr>
          <a:xfrm>
            <a:off x="4527720" y="16304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eck 4"/>
          <p:cNvSpPr/>
          <p:nvPr/>
        </p:nvSpPr>
        <p:spPr>
          <a:xfrm>
            <a:off x="657360" y="1844640"/>
            <a:ext cx="177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f there is a place available on a treatment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2"/>
          <p:cNvSpPr/>
          <p:nvPr/>
        </p:nvSpPr>
        <p:spPr>
          <a:xfrm flipH="1">
            <a:off x="2506320" y="1773360"/>
            <a:ext cx="105732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hteck 57"/>
          <p:cNvSpPr/>
          <p:nvPr/>
        </p:nvSpPr>
        <p:spPr>
          <a:xfrm>
            <a:off x="860400" y="3664080"/>
            <a:ext cx="8557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2"/>
          <p:cNvSpPr/>
          <p:nvPr/>
        </p:nvSpPr>
        <p:spPr>
          <a:xfrm flipH="1">
            <a:off x="1282680" y="2838600"/>
            <a:ext cx="2620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3"/>
          <p:cNvSpPr/>
          <p:nvPr/>
        </p:nvSpPr>
        <p:spPr>
          <a:xfrm>
            <a:off x="501480" y="3716280"/>
            <a:ext cx="154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GK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ealth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4"/>
          <p:cNvSpPr/>
          <p:nvPr/>
        </p:nvSpPr>
        <p:spPr>
          <a:xfrm>
            <a:off x="2167920" y="2994120"/>
            <a:ext cx="88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no places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2"/>
          <p:cNvSpPr/>
          <p:nvPr/>
        </p:nvSpPr>
        <p:spPr>
          <a:xfrm>
            <a:off x="1566720" y="2851200"/>
            <a:ext cx="15163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7"/>
          <p:cNvSpPr/>
          <p:nvPr/>
        </p:nvSpPr>
        <p:spPr>
          <a:xfrm>
            <a:off x="3398760" y="4886280"/>
            <a:ext cx="432000" cy="7351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Data Protection – Law Amendment (2013)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Data exchange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between implementing organisations and other involved institutions (e.g. PES, Health or Pension Insurance)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in individual cases without client‘s explicit consen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No general exchange of data!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Monthly data transfer to Federal Social Office for 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monitoring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 reason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Data exchange for 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statistics and scientific research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eriodic (encoded) transmission to Federal Statistics Offic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Findings on programme, micro- and macro-economic effect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tatistical analyses and scientific evaluation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on behalf of the Federal Social Minister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4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Monitoring and Evaluation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Monthly and yearly, regional and nation-wide 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monitoring of implementation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Monitoring databas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oordination platform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Evaluation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rogramme effect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ilot project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ublicity campaign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7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Starting Position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rinciple „Rehabilitation and Reintegration instead of Retirement“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ocial Partner Action Plan for Older Worker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Inter-ministerial cooperation project „Invalidity in Change“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Reform of invalidity pension scheme („IP New“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Medical and professional rehabilitation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lose cooperation of all involved institution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ositive experience of successful pilot project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(e.g. „Health Road“, „Work and Health Service“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Longer, healthier working lives, prevention of old-age poverty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Reduction in social transfers, increase in public revenu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3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Evaluation of Implementation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Qualitative interviers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in three regions (Sept. 2011 – Aug. 2013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300 clients with completed case management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Employees of fit2work implementing organisation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ooperation partner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Results: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90% (very) satisfied with fit2work service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70% received useful information on re-skilling and therapy offer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24% of those previously unemployed could find a job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45% reported positive work-related developments after participating in fit2work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0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Implementation Evaluation: Some Finding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52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platzhalter 2"/>
          <p:cNvSpPr/>
          <p:nvPr/>
        </p:nvSpPr>
        <p:spPr>
          <a:xfrm>
            <a:off x="395280" y="1197000"/>
            <a:ext cx="777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e64135"/>
                </a:solidFill>
                <a:latin typeface="Arial"/>
                <a:ea typeface="ＭＳ Ｐゴシック"/>
              </a:rPr>
              <a:t>Satisfaction with Counselling Services (process qu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Diagramm 5" descr=""/>
          <p:cNvPicPr/>
          <p:nvPr/>
        </p:nvPicPr>
        <p:blipFill>
          <a:blip r:embed="rId1"/>
          <a:stretch/>
        </p:blipFill>
        <p:spPr>
          <a:xfrm>
            <a:off x="414360" y="1560600"/>
            <a:ext cx="8285040" cy="17254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m 6" descr=""/>
          <p:cNvPicPr/>
          <p:nvPr/>
        </p:nvPicPr>
        <p:blipFill>
          <a:blip r:embed="rId2"/>
          <a:stretch/>
        </p:blipFill>
        <p:spPr>
          <a:xfrm>
            <a:off x="420840" y="3743280"/>
            <a:ext cx="8643960" cy="287676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420840" y="33894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e64135"/>
                </a:solidFill>
                <a:latin typeface="Arial"/>
                <a:ea typeface="ＭＳ Ｐゴシック"/>
              </a:rPr>
              <a:t>Positive Developments due to fit2work C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Public Relation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55700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Website, TV and radio spots, posters and advertisement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9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Diagramm 4" descr=""/>
          <p:cNvPicPr/>
          <p:nvPr/>
        </p:nvPicPr>
        <p:blipFill>
          <a:blip r:embed="rId1"/>
          <a:stretch/>
        </p:blipFill>
        <p:spPr>
          <a:xfrm>
            <a:off x="176040" y="2133720"/>
            <a:ext cx="8755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fit2work Tour Bus  </a:t>
            </a:r>
            <a:r>
              <a:rPr b="0" lang="de-AT" sz="2500" spc="-1" strike="noStrike">
                <a:solidFill>
                  <a:srgbClr val="646569"/>
                </a:solidFill>
                <a:latin typeface="Source Sans Pro"/>
              </a:rPr>
              <a:t>(June 2013)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62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K:\fit2work\ÖA\Fotos\PR\f2w_Pressekonferenz_20130612_Fotos\IMG_0417.JPG"/>
          <p:cNvPicPr/>
          <p:nvPr/>
        </p:nvPicPr>
        <p:blipFill>
          <a:blip r:embed="rId1"/>
          <a:stretch/>
        </p:blipFill>
        <p:spPr>
          <a:xfrm>
            <a:off x="971640" y="1413000"/>
            <a:ext cx="6384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Outlook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Better coordination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between counselling for individuals and companies (esp. on regional level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reparations for 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new call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(contracts 2015-2019) underway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Knowledge management and quality assuranc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More flexible opening times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of contact point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Extension of pilot project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ccomplished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Adaptations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 to reform of invalidity pension scheme („IP new“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Clearer communication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of offers for companies and responsibilitie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Workplace re-integration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for SM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Cooperations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 e.g. with state prize „Nestor Gold“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6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A Combined Effort ...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68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farsh090100065"/>
          <p:cNvPicPr/>
          <p:nvPr/>
        </p:nvPicPr>
        <p:blipFill>
          <a:blip r:embed="rId1"/>
          <a:stretch/>
        </p:blipFill>
        <p:spPr>
          <a:xfrm>
            <a:off x="2679840" y="2427120"/>
            <a:ext cx="3481200" cy="2611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180px-Logo_AUVA_svg"/>
          <p:cNvPicPr/>
          <p:nvPr/>
        </p:nvPicPr>
        <p:blipFill>
          <a:blip r:embed="rId2"/>
          <a:stretch/>
        </p:blipFill>
        <p:spPr>
          <a:xfrm>
            <a:off x="5129280" y="4702320"/>
            <a:ext cx="1081080" cy="763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ANd9GcQbsd8J3p17xHYqLJNpBEYJTEJLEZlI3NOaNKWjSsWaDg5O0iBU-Q"/>
          <p:cNvPicPr/>
          <p:nvPr/>
        </p:nvPicPr>
        <p:blipFill>
          <a:blip r:embed="rId3"/>
          <a:stretch/>
        </p:blipFill>
        <p:spPr>
          <a:xfrm>
            <a:off x="2587680" y="4702320"/>
            <a:ext cx="1047600" cy="628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ANd9GcQ2_1XyWx8JWPfXUbgiuwVUirr7zFYeU4zXNN-PYMeX-WIvy250"/>
          <p:cNvPicPr/>
          <p:nvPr/>
        </p:nvPicPr>
        <p:blipFill>
          <a:blip r:embed="rId4"/>
          <a:stretch/>
        </p:blipFill>
        <p:spPr>
          <a:xfrm>
            <a:off x="5975280" y="4065480"/>
            <a:ext cx="1152720" cy="60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ANd9GcQsoD5wZvyoCGyPgMt680rEmcocFJ9Vawyu0hK4duSTizCQCpXtfQ"/>
          <p:cNvPicPr/>
          <p:nvPr/>
        </p:nvPicPr>
        <p:blipFill>
          <a:blip r:embed="rId5"/>
          <a:stretch/>
        </p:blipFill>
        <p:spPr>
          <a:xfrm>
            <a:off x="5913360" y="2730600"/>
            <a:ext cx="1276560" cy="803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ANd9GcSHYrSF_d4zAW4nPIvXLwyr1ctpgZP1qqLEomvLyFLypFRc8_uJLA"/>
          <p:cNvPicPr/>
          <p:nvPr/>
        </p:nvPicPr>
        <p:blipFill>
          <a:blip r:embed="rId6"/>
          <a:stretch/>
        </p:blipFill>
        <p:spPr>
          <a:xfrm>
            <a:off x="4932360" y="1851120"/>
            <a:ext cx="1569960" cy="596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Bundesministerium für Gesundheit: Link zur Startseit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32000" y="2730600"/>
            <a:ext cx="1779480" cy="520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"/>
          <p:cNvPicPr/>
          <p:nvPr/>
        </p:nvPicPr>
        <p:blipFill>
          <a:blip r:embed="rId9"/>
          <a:stretch/>
        </p:blipFill>
        <p:spPr>
          <a:xfrm>
            <a:off x="4092480" y="4952880"/>
            <a:ext cx="655560" cy="684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10"/>
          <a:stretch/>
        </p:blipFill>
        <p:spPr>
          <a:xfrm>
            <a:off x="1461960" y="3505320"/>
            <a:ext cx="1370160" cy="1003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Logo Bundesministerium für Arbeit, Soziales und Konsumentenschutz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84360" y="1857240"/>
            <a:ext cx="18558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4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7f7f7f"/>
                </a:solidFill>
                <a:latin typeface="Source Sans Pro"/>
              </a:rPr>
              <a:t>Thanks for your attention!</a:t>
            </a:r>
            <a:endParaRPr b="1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Source Sans Pro"/>
              </a:rPr>
              <a:t>Sigrid Röhrich, Mag. (FH)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Labour Market Department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Deputy Head of Unit VI/A/2 – Interfac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Employment, Health, Old-Age Provision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Stubenring 1, 1010 Vienna, Austria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Phone: +43 (0)1 71100 5726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ource Sans Pro"/>
              </a:rPr>
              <a:t>Mobile: +43 (0)664 1048581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9999"/>
                </a:solidFill>
                <a:uFillTx/>
                <a:latin typeface="Source Sans Pro"/>
                <a:hlinkClick r:id="rId1"/>
              </a:rPr>
              <a:t>s</a:t>
            </a:r>
            <a:r>
              <a:rPr b="0" lang="de-AT" sz="1600" spc="-1" strike="noStrike" u="sng">
                <a:solidFill>
                  <a:srgbClr val="009999"/>
                </a:solidFill>
                <a:uFillTx/>
                <a:latin typeface="Source Sans Pro"/>
                <a:hlinkClick r:id="rId2"/>
              </a:rPr>
              <a:t>igrid.roehrich@sozialministerium.at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0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Legal Basi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Labour and Health Act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(Arbeit-und-Gesundheit-Gesetz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,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GG 2010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dopted by Parliament in December 2010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ame into force on 1 January 2011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mended in 2013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Legal basis for introduction of </a:t>
            </a: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fit2work programm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Low-threshold information, counselling and support offer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for secondary prevention of work-related disease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Raising awareness on all issues related to work and health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tarted in July 2011, nation-wide roll-out since January 2013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6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://t3.gstatic.com/images?q=tbn:ANd9GcQVW3O8VVcf6cL6NdDd238u9qSP6x8oRQEr27utCTAew2hjXFJW_VS5ClA4"/>
          <p:cNvPicPr/>
          <p:nvPr/>
        </p:nvPicPr>
        <p:blipFill>
          <a:blip r:embed="rId1"/>
          <a:stretch/>
        </p:blipFill>
        <p:spPr>
          <a:xfrm>
            <a:off x="5867280" y="404640"/>
            <a:ext cx="1233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Target Group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Employed and self-employed person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with long sick leaves or health problem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Unemployed person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with health impairment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Companies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 and employee representative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esp. with an above-average number of days of sick leav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http://t0.gstatic.com/images?q=tbn:ANd9GcSTNMdUf2XS-VTGcH_su10FkkSm724bHERbepIiwlRaRKRjSXMTiQ"/>
          <p:cNvPicPr/>
          <p:nvPr/>
        </p:nvPicPr>
        <p:blipFill>
          <a:blip r:embed="rId1"/>
          <a:stretch/>
        </p:blipFill>
        <p:spPr>
          <a:xfrm>
            <a:off x="5219640" y="4428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Objective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reserving or enhancing working capacity in persons with health impairment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Reduction of sickness absenc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ustainable integration of clients into health-adequate job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reventing pre-mature exits from the labour force (and hence, unemployment or retirement for health reasons)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Re-integration of clients in the workplace after long periods of sick leave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http://t1.gstatic.com/images?q=tbn:ANd9GcSlLs52MpmI8xhPSwddDjBikbt9BiS4b8ZZHyvpkx79SgdEbTzW"/>
          <p:cNvPicPr/>
          <p:nvPr/>
        </p:nvPicPr>
        <p:blipFill>
          <a:blip r:embed="rId1"/>
          <a:stretch/>
        </p:blipFill>
        <p:spPr>
          <a:xfrm>
            <a:off x="5398920" y="411120"/>
            <a:ext cx="1694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Basic Principle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Building on existing structure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voiding redundancies and over-capacities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Voluntary, free of charge, confidentia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Early intervention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ustainable assistanc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Tailored to the individua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Gender- and diversity-sensitive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upporting responsibility of the individua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t3.gstatic.com/images?q=tbn:ANd9GcSIsfCbiykb-ahMt7697qo8YGdfHq9NntEz6Z4kMpT70nvbj_xe"/>
          <p:cNvPicPr/>
          <p:nvPr/>
        </p:nvPicPr>
        <p:blipFill>
          <a:blip r:embed="rId1"/>
          <a:stretch/>
        </p:blipFill>
        <p:spPr>
          <a:xfrm>
            <a:off x="5867280" y="411120"/>
            <a:ext cx="11527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Organisation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84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Steering Group headed by the Social Ministry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Chair: Dr. Christian Operschall (Labour Market Department)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Members: Ministries (Social, Health, Economy, Finance), PES, Social Insurance Institutions (Pensions, Health, Accident)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Support team: Federal Social Office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Advisory Council 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Members: Social Partners, National Council of Disabled Persons, Labour Inspectorates</a:t>
            </a:r>
            <a:endParaRPr b="0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Co-financed by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Public Employment Service, Pension, Health and Accident Insurance Institutions, and Federal Social Office 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ource Sans Pro"/>
              </a:rPr>
              <a:t>40 regional contact points </a:t>
            </a:r>
            <a:r>
              <a:rPr b="0" lang="de-AT" sz="2000" spc="-1" strike="noStrike">
                <a:solidFill>
                  <a:srgbClr val="000000"/>
                </a:solidFill>
                <a:latin typeface="Source Sans Pro"/>
              </a:rPr>
              <a:t>all over Austria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953040" cy="5554800"/>
          </a:xfrm>
          <a:prstGeom prst="rect">
            <a:avLst/>
          </a:prstGeom>
          <a:ln w="0">
            <a:noFill/>
          </a:ln>
        </p:spPr>
      </p:pic>
      <p:sp>
        <p:nvSpPr>
          <p:cNvPr id="154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0563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Source Sans Pro"/>
              </a:rPr>
              <a:t>Counselling Process for Individuals (I)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56" name="Fußzeilenplatzhalter 3"/>
          <p:cNvSpPr/>
          <p:nvPr/>
        </p:nvSpPr>
        <p:spPr>
          <a:xfrm>
            <a:off x="395280" y="598644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Active Age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Vienna, 23 Apri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108080" y="1197000"/>
            <a:ext cx="6343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1Z</dcterms:created>
  <dc:creator>wrd</dc:creator>
  <dc:description/>
  <dc:language>en-US</dc:language>
  <cp:lastModifiedBy>BERGMANN Ester</cp:lastModifiedBy>
  <cp:lastPrinted>2014-02-20T16:07:27Z</cp:lastPrinted>
  <dcterms:modified xsi:type="dcterms:W3CDTF">2014-04-22T09:59:21Z</dcterms:modified>
  <cp:revision>54</cp:revision>
  <dc:subject/>
  <dc:title>Folie 1</dc:title>
</cp:coreProperties>
</file>